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6652-603D-4B55-81B9-6A8F1486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00C3-ECBE-46CF-8328-7BEAA7A7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1E4B-1E4C-436E-939F-02EE268E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628A-9ABE-442C-9366-F0DC857A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FA0A-6253-4D4C-8E46-22F388B8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3A46-69C7-4545-AE5D-FD192044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CD3F-3E54-4468-9C8A-A128CD46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B087-B263-4B4F-8B12-E5609F2E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5872-2D8E-41D7-B7BE-BC3AF30D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D9BA-1AE8-40A6-BBC4-E2570CA1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8AA3-D6C5-47DD-A632-BCC73209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DF0A-DC20-4A48-BAEA-FF87746B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D204F-12E4-4661-B416-38201D7FFB5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73080" y="2519280"/>
            <a:ext cx="4425840" cy="3935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80000" y="3240000"/>
            <a:ext cx="360036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4400" spc="-1" strike="noStrike" u="sng">
                <a:solidFill>
                  <a:srgbClr val="c5000b"/>
                </a:solidFill>
                <a:uFillTx/>
                <a:latin typeface="Century Schoolbook L"/>
              </a:rPr>
              <a:t>A  CIGARRA E A FORMI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19640" y="809280"/>
            <a:ext cx="442584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2300dc"/>
                </a:solidFill>
                <a:latin typeface="Arial"/>
              </a:rPr>
              <a:t>Era uma vez uma formiguinha e uma cigarra muito amig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8080"/>
                </a:solidFill>
                <a:latin typeface="Arial"/>
              </a:rPr>
              <a:t>Durante todo o outono a formiguinha trabalhou sem parar a fim de armazenar comida para o período  de inver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ff00"/>
                </a:solidFill>
                <a:latin typeface="Arial"/>
              </a:rPr>
              <a:t>Não aproveitou nada do sol, da brisa suave do fim da tarde e nem da conversa com os amigos ao final do expediente de trabalho para tomar uma cerve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2735280"/>
            <a:ext cx="4425840" cy="305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49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49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49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49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3280" y="2295360"/>
            <a:ext cx="4425840" cy="3935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000" spc="-1" strike="noStrike">
                <a:solidFill>
                  <a:srgbClr val="b80047"/>
                </a:solidFill>
                <a:latin typeface="Arial"/>
              </a:rPr>
              <a:t>Seu nome e sobrenome eram trabalh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000" spc="-1" strike="noStrike">
                <a:solidFill>
                  <a:srgbClr val="ff950e"/>
                </a:solidFill>
                <a:latin typeface="Arial"/>
              </a:rPr>
              <a:t>Enquanto isso, a cigarra só queria saber de cantar nas rodas de amigos, nos bares da c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000" spc="-1" strike="noStrike">
                <a:solidFill>
                  <a:srgbClr val="cccc00"/>
                </a:solidFill>
                <a:latin typeface="Arial"/>
              </a:rPr>
              <a:t>Não desperdiçou um minuto sequer, cantou durante todo o outono, dançou, aproveitou o sol, curtiu para valer sem se preocupar com o inverno que estava por v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3280" y="2301840"/>
            <a:ext cx="4425840" cy="3922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000" spc="-1" strike="noStrike">
                <a:solidFill>
                  <a:srgbClr val="00ffff"/>
                </a:solidFill>
                <a:latin typeface="Arial"/>
              </a:rPr>
              <a:t>Então, passados alguns dias, começou a esfriar.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000" spc="-1" strike="noStrike">
                <a:solidFill>
                  <a:srgbClr val="2300dc"/>
                </a:solidFill>
                <a:latin typeface="Arial"/>
              </a:rPr>
              <a:t>Era o inverno que estava começan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000" spc="-1" strike="noStrike">
                <a:solidFill>
                  <a:srgbClr val="0099ff"/>
                </a:solidFill>
                <a:latin typeface="Arial"/>
              </a:rPr>
              <a:t>A formiguinha exausta entrou em sua singela e aconchegante toca, repleta de com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000" spc="-1" strike="noStrike">
                <a:solidFill>
                  <a:srgbClr val="c5000b"/>
                </a:solidFill>
                <a:latin typeface="Arial"/>
              </a:rPr>
              <a:t>Mas, alguém chamava por seu nome do lado de fora da toca e quando abriu a porta para ver quem era, ficou surpresa com o que viu.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3280" y="1962000"/>
            <a:ext cx="4425840" cy="4602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000" spc="-1" strike="noStrike">
                <a:solidFill>
                  <a:srgbClr val="cccc00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cccc00"/>
                </a:solidFill>
                <a:latin typeface="Arial"/>
              </a:rPr>
              <a:t>Pois a Formiga estava sorrindo a toa da cigarra, que cantava muito mais contente e sorrid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000" spc="-1" strike="noStrike">
                <a:solidFill>
                  <a:srgbClr val="ff00ff"/>
                </a:solidFill>
                <a:latin typeface="Arial"/>
              </a:rPr>
              <a:t>Pois desta vez ela tinha recebido ajuda de gafanhotos que a encheram de m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000" spc="-1" strike="noStrike">
                <a:solidFill>
                  <a:srgbClr val="666600"/>
                </a:solidFill>
                <a:latin typeface="Arial"/>
              </a:rPr>
              <a:t>E ainda a convidaram para cantar no show de Zezé di Camargo e Lucian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000" spc="-1" strike="noStrike">
                <a:solidFill>
                  <a:srgbClr val="000080"/>
                </a:solidFill>
                <a:latin typeface="Arial"/>
              </a:rPr>
              <a:t>KKK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163080"/>
            <a:ext cx="90709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4400" spc="-1" strike="noStrike" u="sng">
                <a:solidFill>
                  <a:srgbClr val="c5000b"/>
                </a:solidFill>
                <a:uFillTx/>
                <a:latin typeface="Century Schoolbook L"/>
              </a:rPr>
              <a:t>A CIGARRA E ZEZÉ E LUCIANO AO VIV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20720" y="2700360"/>
            <a:ext cx="8640720" cy="4140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92720" y="176004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1:47:51Z</dcterms:created>
  <dc:creator/>
  <dc:description/>
  <dc:language>en-US</dc:language>
  <cp:lastModifiedBy/>
  <cp:revision>1</cp:revision>
  <dc:subject/>
  <dc:title/>
</cp:coreProperties>
</file>